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41501-B833-43E6-A541-B91BCEEC6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E6F7B-9C10-458E-ACE6-CB1CE2CB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70191-BAEA-4150-A40F-9193703D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A78-4FEE-4816-B615-B01E47D5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C0D-46FE-4278-B738-63E33CEE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97E-6652-45DE-9225-2C77872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BEE-56BC-439F-A6FF-31BBC72D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B11-EA20-4E63-9E35-A1696C15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8BFD-C46E-4515-B7F8-E9958CE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0F1E-2954-44BA-A141-93F88AB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A49C-0CE5-4684-BBC1-6C763850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9F01-ABC4-4961-B419-895C366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F868-C800-4213-A91B-60F4555D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E3A2-1697-47D7-9798-08A5A668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97B-EEEC-475C-BE6E-91DBEF05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E97B-D12D-44B2-A967-90BE425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11D8-982D-4522-848A-8825E3D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FC4-8EBF-4CFB-A00B-8B0438E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F349-0F88-4B13-8EE3-69C556AE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CE13-E9BA-43F0-ACC1-5C4F239B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9A5-17F2-488F-88F1-31F20EF6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490-6741-4950-A3AC-532491F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53A-5F9A-4CBF-B6CF-935B3868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03F-D496-48A2-9E9F-AFB3A18E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4F0-A47B-4D02-8F91-FCE4661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C1F-2738-4CC8-9D0E-8C9C042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40F-4699-4443-8ACE-FA5FC0A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BA50B-9E27-4E0F-B46B-7B9CED5C36A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FACC1-42F6-47A0-AEC8-12EF00926EB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41D9F-9808-449F-A481-308ACBE10D9A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C497E-5E3B-412F-A592-B09A860DE26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1631520"/>
            <a:ext cx="649944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roduction to Broadband processing with Matlab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Rob Porrit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UC Berkeley PhD Candid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IRIS Internship Orientation, Socorro, NM. May 2011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2" name="Picture 4" descr="BSLlogoPPT.jpg"/>
          <p:cNvPicPr/>
          <p:nvPr/>
        </p:nvPicPr>
        <p:blipFill>
          <a:blip r:embed="rId2"/>
          <a:stretch/>
        </p:blipFill>
        <p:spPr>
          <a:xfrm>
            <a:off x="0" y="0"/>
            <a:ext cx="31226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icture 3.png"/>
          <p:cNvPicPr/>
          <p:nvPr/>
        </p:nvPicPr>
        <p:blipFill>
          <a:blip r:embed="rId3"/>
          <a:stretch/>
        </p:blipFill>
        <p:spPr>
          <a:xfrm>
            <a:off x="6838920" y="0"/>
            <a:ext cx="2305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ot just for data process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9000" y="1600200"/>
            <a:ext cx="804204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art with a break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tlab draw pok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News Gothic MT"/>
              </a:rPr>
              <a:t>poker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tlab role-playing gam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News Gothic MT"/>
              </a:rPr>
              <a:t>dunge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549360" y="3890880"/>
            <a:ext cx="80420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made these games years ago during a very boring summer working third shift in an automotive fac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y favorite equations (1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(t) = s(t) * g(t) * i(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(ω) = S(ω)G(ω)I(ω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observed seismogram (u) is a convolution of the source (s) of seismic excitation with the earth’s Green’s function (g) and the convolution with the instrument recording (i). Or in the frequency domain, convolution is multipl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y favorite equations (2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2690280"/>
            <a:ext cx="804204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ρ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ü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=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f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+ (λ + 2μ)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u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) – μ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x (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x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u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549360" y="2690640"/>
            <a:ext cx="8042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549360" y="1620720"/>
            <a:ext cx="80420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equation of motion in a homogeneous medium, using displacement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384960" y="5934240"/>
            <a:ext cx="27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 Seismology, Aki and Richards, 2002. Equation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549360" y="3378240"/>
            <a:ext cx="80420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 as Sir Isaac Newton pu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MA = Σ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at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60020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me data from a Berkeley station is stored in the data/exercise_{1,2,3,5} fold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can replace that data with your data in the folder data/chile_6.4/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side that folder are three more folders (porritt, miller, anthony) which contain data for a teleseism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side data/ is the pole-zero response of your stations (cmg3t.pz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ast year’s data is in data/intern_data if you’re interest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mponent naming conven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irst letter is the sampling rat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L = Low or 1 hz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B = Mid or 40 hz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More options, but these are most likely what you may se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cond letter is the gai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H = High gai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L = Low gai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hird letter is the direc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Z = Vertic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N = North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E = Ea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hus, BHZ is 40 hz, high gain, vertic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eprocess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8042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here on, the full steps are outlined in the worksh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rest of the presentation will hopefully give background why we do each step, but feel free to start work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eprocessing is the “standard” steps to get true ground motion from the seismic recor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w data is in “digital counts” versus tim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eprocess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move the mean and linear tren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mean would create a very large DC or 0 frequency amplitud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linear trend has a lesser effect, but again amplifies various non-linear effec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aper the en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Discrete Fourier Transform (DFT) algorithm can create significant undesired sidelopes or ringing. Tapering the ends reduces this effec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move the instrument respons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is is a science in and about itself (see next slide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ment Respon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4" name="Picture 5" descr="untitled.jpg"/>
          <p:cNvPicPr/>
          <p:nvPr/>
        </p:nvPicPr>
        <p:blipFill>
          <a:blip r:embed="rId2"/>
          <a:stretch/>
        </p:blipFill>
        <p:spPr>
          <a:xfrm>
            <a:off x="3467160" y="1839960"/>
            <a:ext cx="5676840" cy="4257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-360" y="1599840"/>
            <a:ext cx="3476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onvolution of sensor, digitizer, and decimation(s)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ensors has poles to define shape, zeros to define acceleration, velocity, or displacement, and gain for units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igitizer does decimation with gain factor and high corner pol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y function does not include digitizer poles and normalization because the sac pole zero file does not contain that information.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5641920" y="575136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6200000">
            <a:off x="2690640" y="351936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egration and Differenti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9000" y="1599840"/>
            <a:ext cx="5343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e record velocity as a function of time, but moment tensors are defined in terms of displacement and building codes are defined in terms of peak ground accelera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ankfully the relations are standard calcul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adly they are discrete functions and thus its non-trivial to implement the calcul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326280" y="2141640"/>
                <a:ext cx="2265120" cy="33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untitled.jpg"/>
          <p:cNvPicPr/>
          <p:nvPr/>
        </p:nvPicPr>
        <p:blipFill>
          <a:blip r:embed="rId2"/>
          <a:stretch/>
        </p:blipFill>
        <p:spPr>
          <a:xfrm>
            <a:off x="0" y="3824280"/>
            <a:ext cx="9144000" cy="3086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egration and Differenti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49000" y="1599840"/>
            <a:ext cx="804204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w to integrate or differentiate in the time domain is actually non-trivial. It is thus more common to do frequency domain calcul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freq_integr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ivides the data by 2iπf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875120" y="30560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9213b"/>
                </a:solidFill>
                <a:latin typeface="News Gothic MT"/>
              </a:rPr>
              <a:t>freq_different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9213b"/>
                </a:solidFill>
                <a:latin typeface="News Gothic MT"/>
                <a:ea typeface="ＭＳ Ｐゴシック"/>
              </a:rPr>
              <a:t>Multiplies the data by 2iπ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6434280" y="4402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6434280" y="5265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434280" y="61531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ata comparis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974880" y="1606680"/>
            <a:ext cx="7386480" cy="5091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47560" y="1774800"/>
            <a:ext cx="427320" cy="1593720"/>
            <a:chOff x="547560" y="1774800"/>
            <a:chExt cx="427320" cy="1593720"/>
          </a:xfrm>
        </p:grpSpPr>
        <p:sp>
          <p:nvSpPr>
            <p:cNvPr id="97" name="Straight Connector 5"/>
            <p:cNvSpPr/>
            <p:nvPr/>
          </p:nvSpPr>
          <p:spPr>
            <a:xfrm flipH="1" flipV="1">
              <a:off x="548640" y="1774800"/>
              <a:ext cx="42588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 flipH="1">
              <a:off x="547560" y="1776240"/>
              <a:ext cx="1440" cy="15908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9"/>
            <p:cNvSpPr/>
            <p:nvPr/>
          </p:nvSpPr>
          <p:spPr>
            <a:xfrm>
              <a:off x="547560" y="3367080"/>
              <a:ext cx="4273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547560" y="3367080"/>
            <a:ext cx="427320" cy="1527120"/>
            <a:chOff x="547560" y="3367080"/>
            <a:chExt cx="427320" cy="1527120"/>
          </a:xfrm>
        </p:grpSpPr>
        <p:sp>
          <p:nvSpPr>
            <p:cNvPr id="101" name="Straight Connector 13"/>
            <p:cNvSpPr/>
            <p:nvPr/>
          </p:nvSpPr>
          <p:spPr>
            <a:xfrm flipH="1" flipV="1">
              <a:off x="548640" y="3367080"/>
              <a:ext cx="42588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14"/>
            <p:cNvSpPr/>
            <p:nvPr/>
          </p:nvSpPr>
          <p:spPr>
            <a:xfrm flipH="1">
              <a:off x="547560" y="3368520"/>
              <a:ext cx="1440" cy="15242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15"/>
            <p:cNvSpPr/>
            <p:nvPr/>
          </p:nvSpPr>
          <p:spPr>
            <a:xfrm>
              <a:off x="547560" y="4892760"/>
              <a:ext cx="4273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550800" y="4892760"/>
            <a:ext cx="425520" cy="1528560"/>
            <a:chOff x="550800" y="4892760"/>
            <a:chExt cx="425520" cy="1528560"/>
          </a:xfrm>
        </p:grpSpPr>
        <p:sp>
          <p:nvSpPr>
            <p:cNvPr id="105" name="Straight Connector 17"/>
            <p:cNvSpPr/>
            <p:nvPr/>
          </p:nvSpPr>
          <p:spPr>
            <a:xfrm flipH="1" flipV="1">
              <a:off x="552240" y="4892760"/>
              <a:ext cx="42408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8"/>
            <p:cNvSpPr/>
            <p:nvPr/>
          </p:nvSpPr>
          <p:spPr>
            <a:xfrm flipH="1">
              <a:off x="550800" y="4894200"/>
              <a:ext cx="1440" cy="152568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19"/>
            <p:cNvSpPr/>
            <p:nvPr/>
          </p:nvSpPr>
          <p:spPr>
            <a:xfrm>
              <a:off x="550800" y="6419880"/>
              <a:ext cx="4255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20"/>
          <p:cNvSpPr/>
          <p:nvPr/>
        </p:nvSpPr>
        <p:spPr>
          <a:xfrm rot="16200000">
            <a:off x="-183600" y="20808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 rot="16200000">
            <a:off x="-184680" y="3885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 rot="16200000">
            <a:off x="-218160" y="5385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3"/>
          <p:cNvSpPr/>
          <p:nvPr/>
        </p:nvSpPr>
        <p:spPr>
          <a:xfrm>
            <a:off x="3008160" y="3833640"/>
            <a:ext cx="35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k was a George Bush (fail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ng period seismogram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49360" y="1599840"/>
            <a:ext cx="53085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y factors discussed in the worksheet lead to primarily long period signals from large distant earthquak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arge earthquakes excite very large and very long period waves which ring around the ear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longest period earth mode is the Slichter mode vibrating with a period of around 1 hou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70" name="Picture 4" descr="SumatraPoster.jpg"/>
          <p:cNvPicPr/>
          <p:nvPr/>
        </p:nvPicPr>
        <p:blipFill>
          <a:blip r:embed="rId2"/>
          <a:stretch/>
        </p:blipFill>
        <p:spPr>
          <a:xfrm>
            <a:off x="5837400" y="2576520"/>
            <a:ext cx="3306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erci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eprocess the 3-component data to ground velocit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w pass filter the dat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tate the horizontals to radial and transverse dire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you feel comfortable with Matlab try plotting phases with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plot_phase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scribed at the end of the worksh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thropogenic noi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ise” due to human motion typically excites higher frequenc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igh pass filter the data to see the variation between day and nigh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75" name="Picture 3" descr="untitled.jpg"/>
          <p:cNvPicPr/>
          <p:nvPr/>
        </p:nvPicPr>
        <p:blipFill>
          <a:blip r:embed="rId2"/>
          <a:stretch/>
        </p:blipFill>
        <p:spPr>
          <a:xfrm>
            <a:off x="0" y="3772080"/>
            <a:ext cx="9144000" cy="3085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198440" y="3587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1198440" y="51307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7"/>
          <p:cNvSpPr/>
          <p:nvPr/>
        </p:nvSpPr>
        <p:spPr>
          <a:xfrm flipV="1">
            <a:off x="4719600" y="3957480"/>
            <a:ext cx="36720" cy="2595600"/>
          </a:xfrm>
          <a:prstGeom prst="line">
            <a:avLst/>
          </a:prstGeom>
          <a:ln w="38160">
            <a:solidFill>
              <a:srgbClr val="2c7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4719600" y="3587760"/>
            <a:ext cx="23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am - Berke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ower Spectral Densit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9000" y="1599840"/>
            <a:ext cx="804204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tral estimate of power over a time perio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ust estimates require averaging several spectrums within the time window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andard tool for looking at background seismic signals and quality control of sta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2" name="Picture 3" descr="swap_psd.pdf"/>
          <p:cNvPicPr/>
          <p:nvPr/>
        </p:nvPicPr>
        <p:blipFill>
          <a:blip r:embed="rId2"/>
          <a:srcRect l="62217" t="0" r="3890" b="0"/>
          <a:stretch/>
        </p:blipFill>
        <p:spPr>
          <a:xfrm rot="16200000">
            <a:off x="2884320" y="2214000"/>
            <a:ext cx="283212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herenc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asure of similarity between two signa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ust estimate via similar method as PS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5" name="Picture 3" descr="swap_coherence.pdf"/>
          <p:cNvPicPr/>
          <p:nvPr/>
        </p:nvPicPr>
        <p:blipFill>
          <a:blip r:embed="rId2"/>
          <a:srcRect l="0" t="64121" r="0" b="0"/>
          <a:stretch/>
        </p:blipFill>
        <p:spPr>
          <a:xfrm>
            <a:off x="1171440" y="3355920"/>
            <a:ext cx="666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oss Corre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timates delay time of similar signa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0" y="2289240"/>
            <a:ext cx="9144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hase arrival estimat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90" name="Picture 4" descr="untitled.jpg"/>
          <p:cNvPicPr/>
          <p:nvPr/>
        </p:nvPicPr>
        <p:blipFill>
          <a:blip r:embed="rId2"/>
          <a:srcRect l="10875" t="0" r="6042" b="0"/>
          <a:stretch/>
        </p:blipFill>
        <p:spPr>
          <a:xfrm>
            <a:off x="23760" y="1660680"/>
            <a:ext cx="9099720" cy="2377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604880" y="432576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still needs work. Main inputs include the distance between station and earthquake, 1D velocity model, depth, and origin time relative to the start of the seism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270240" y="204948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4135320" y="33210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7"/>
          <p:cNvCxnSpPr/>
          <p:nvPr/>
        </p:nvCxnSpPr>
        <p:spPr>
          <a:xfrm>
            <a:off x="3366000" y="2346120"/>
            <a:ext cx="11880" cy="41004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cxnSp>
        <p:nvCxnSpPr>
          <p:cNvPr id="195" name="Straight Arrow Connector 8"/>
          <p:cNvCxnSpPr/>
          <p:nvPr/>
        </p:nvCxnSpPr>
        <p:spPr>
          <a:xfrm flipV="1">
            <a:off x="5019840" y="2908080"/>
            <a:ext cx="2160" cy="41328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sp>
        <p:nvSpPr>
          <p:cNvPr id="196" name="TextBox 10"/>
          <p:cNvSpPr/>
          <p:nvPr/>
        </p:nvSpPr>
        <p:spPr>
          <a:xfrm>
            <a:off x="6337440" y="144468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leig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12"/>
          <p:cNvCxnSpPr/>
          <p:nvPr/>
        </p:nvCxnSpPr>
        <p:spPr>
          <a:xfrm flipH="1">
            <a:off x="6911640" y="1814040"/>
            <a:ext cx="2160" cy="9421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eneralized Ray The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ward Modeling method. Exercise is not fully developed. Delve into this only if you are exceedingly curious and comfortable with Matla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utes the rays with some esoteric law you may have heard of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00" name="Picture 3" descr="untitled.jpg"/>
          <p:cNvPicPr/>
          <p:nvPr/>
        </p:nvPicPr>
        <p:blipFill>
          <a:blip r:embed="rId2"/>
          <a:stretch/>
        </p:blipFill>
        <p:spPr>
          <a:xfrm>
            <a:off x="0" y="2941560"/>
            <a:ext cx="91440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ays computed in co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281160" y="1917720"/>
            <a:ext cx="856296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4060800" y="23241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ell’s La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2303640"/>
            <a:ext cx="8982000" cy="3690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ome interesting signa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147600" y="2336760"/>
            <a:ext cx="8996400" cy="4469400"/>
            <a:chOff x="147600" y="2336760"/>
            <a:chExt cx="8996400" cy="4469400"/>
          </a:xfrm>
        </p:grpSpPr>
        <p:sp>
          <p:nvSpPr>
            <p:cNvPr id="115" name="Straight Connector 8"/>
            <p:cNvSpPr/>
            <p:nvPr/>
          </p:nvSpPr>
          <p:spPr>
            <a:xfrm>
              <a:off x="2552760" y="6436080"/>
              <a:ext cx="12319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47600" y="2336760"/>
              <a:ext cx="8996400" cy="4469400"/>
              <a:chOff x="147600" y="2336760"/>
              <a:chExt cx="8996400" cy="4469400"/>
            </a:xfrm>
          </p:grpSpPr>
          <p:pic>
            <p:nvPicPr>
              <p:cNvPr id="117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600" y="2336760"/>
                <a:ext cx="8996400" cy="36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Straight Connector 6"/>
              <p:cNvSpPr/>
              <p:nvPr/>
            </p:nvSpPr>
            <p:spPr>
              <a:xfrm flipH="1">
                <a:off x="2552760" y="4932360"/>
                <a:ext cx="10800" cy="1503360"/>
              </a:xfrm>
              <a:prstGeom prst="line">
                <a:avLst/>
              </a:prstGeom>
              <a:ln w="25560">
                <a:solidFill>
                  <a:srgbClr val="2c7c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Straight Connector 7"/>
              <p:cNvSpPr/>
              <p:nvPr/>
            </p:nvSpPr>
            <p:spPr>
              <a:xfrm flipH="1">
                <a:off x="3784320" y="4932360"/>
                <a:ext cx="12600" cy="1503360"/>
              </a:xfrm>
              <a:prstGeom prst="line">
                <a:avLst/>
              </a:prstGeom>
              <a:ln w="25560">
                <a:solidFill>
                  <a:srgbClr val="2c7c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1"/>
              <p:cNvSpPr/>
              <p:nvPr/>
            </p:nvSpPr>
            <p:spPr>
              <a:xfrm>
                <a:off x="1947600" y="6437880"/>
                <a:ext cx="258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 seconds ~ 160 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sclaim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primarily work in c for the processing speed and my familiarity with i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atlab functions in this tutorial were written by me, a graduate student in seismology, not a computer programmer or an expert in digital signal process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Matlab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69880" y="1600200"/>
            <a:ext cx="4003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asy to use and lear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teractive environ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ver-growing libr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ood document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2370240" y="3962520"/>
            <a:ext cx="400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Not f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Slow to 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Poor with st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tlab packages availab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ssures-MATLA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kage distributed by IRI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tSe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kage for active source data process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litLa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kage for doing shear-wave splitt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et your own cop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can copy the data and functions from my directory on a linux/unix terminal with the command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News Gothic MT"/>
              </a:rPr>
              <a:t>cp –r /fs/tmp/porritt_matlab/* 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w you can call them from matlab or edit them with the edit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ck out the func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News Gothic MT"/>
              </a:rPr>
              <a:t>ls porritt_broadband_processing_matlab/functio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et start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wnload a local copy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ttp://seismowiki2.pbworks.com/f/porritt_broadband_processing_matlab.zip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zi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unzip or find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d the pa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aunch matlab. Then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ddpath (directory of unzipped)/porritt_broadband_processing_matlab/function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dd matTau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t sure we’ll get there, but to install the matlab wrapper from Matlab prompt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ddpath /Users/usarray/Documents/MATLAB/matTaup/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javaaddpath /Users/usarray/Documents/MATLAB/matTaup/lib/matTaup.ja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4:23:09Z</dcterms:created>
  <dc:creator>Rob Porritt</dc:creator>
  <dc:description/>
  <dc:language>en-US</dc:language>
  <cp:lastModifiedBy>Rob Porritt</cp:lastModifiedBy>
  <dcterms:modified xsi:type="dcterms:W3CDTF">2011-06-03T14:34:04Z</dcterms:modified>
  <cp:revision>18</cp:revision>
  <dc:subject/>
  <dc:title>Introduction to Broadband processing with Matlab</dc:title>
</cp:coreProperties>
</file>