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E4E-42B8-464B-B0F8-148D2BC2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E11-4A55-4219-B9AD-926BDBD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D5A-6A69-410F-AD93-BE69A064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151-74D2-476F-969D-EEBD95BA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DD7-E07A-4888-8786-DF400BD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FDC-1472-4E45-B784-42B97F2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518-0E1B-4DD3-ABDC-C1F533A2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97A-E049-4FA1-9573-40ADAA3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A68-2748-4220-BC87-B7E8D59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91C-0E0F-4B49-8B20-EF5D992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650-E988-465A-B76A-B81081F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D82-F31D-460A-B21B-2F32890B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FFF-924A-4E81-AAEB-5D09B9E4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0769" r="0" b="10769"/>
          <a:stretch/>
        </p:blipFill>
        <p:spPr>
          <a:xfrm>
            <a:off x="990720" y="84240"/>
            <a:ext cx="6910200" cy="6713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57400" y="102888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nut</cp:lastModifiedBy>
  <dcterms:modified xsi:type="dcterms:W3CDTF">2006-12-15T01:41:08Z</dcterms:modified>
  <cp:revision>1</cp:revision>
  <dc:subject/>
  <dc:title>PowerPoint Presentation</dc:title>
</cp:coreProperties>
</file>