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DB9-0235-4AF8-BB8B-640096C8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578232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F30-E663-4D5D-8234-78F47D1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0FF-43FE-495B-98DA-E70BBE04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060-BE41-4C3F-8249-3E1CD4A2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9F8-CFA0-47CC-B500-F37B4D54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5C7-E8E2-4E6D-B009-47440936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112-8D8D-46E1-B81F-4612425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5F7-7FEB-4C32-87F1-1808D869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53560"/>
            <a:ext cx="66074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5A5-CA9A-45FF-8737-75CDC43B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D1F-8DAD-465F-949F-701C17A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7F-34FB-4C3A-9AF1-D2888A7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E2B-DF3F-47DF-8A5B-6BC5BEE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8746920"/>
            <a:ext cx="1619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8746920"/>
            <a:ext cx="24609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8746920"/>
            <a:ext cx="1619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54B-27C2-42AC-A6B3-D7DE66A85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4800" y="24192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nut</cp:lastModifiedBy>
  <dcterms:modified xsi:type="dcterms:W3CDTF">2006-12-15T01:16:49Z</dcterms:modified>
  <cp:revision>3</cp:revision>
  <dc:subject/>
  <dc:title>PowerPoint Presentation</dc:title>
</cp:coreProperties>
</file>