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EA0-13EA-4CBD-81C5-FADB502B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6607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5782320"/>
            <a:ext cx="6607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8D1-9C6A-413B-A002-3CF3FF09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578232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578232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524-677D-4718-B500-9D101827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77308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77308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578232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578232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5782320"/>
            <a:ext cx="21272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C92-85F3-4DD3-A716-4A5B27BA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773080"/>
            <a:ext cx="660744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7B3-700F-49DA-9BA7-B650BB25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6607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EC1-0E74-48A1-A747-D390730D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99F-518C-4ABE-8F7E-E911BA2D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AB9-A523-4918-BA50-38E0E342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53560"/>
            <a:ext cx="660744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35A-7069-465E-B3C0-D888F4D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578232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188-4D0E-427E-AB5A-B6666B0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578232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64A-E2C4-4263-9A25-CC38BE36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773080"/>
            <a:ext cx="32241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5782320"/>
            <a:ext cx="6607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1AF-E913-4746-897F-4962CD3A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53560"/>
            <a:ext cx="660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773080"/>
            <a:ext cx="6607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8746920"/>
            <a:ext cx="16192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8746920"/>
            <a:ext cx="24609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8746920"/>
            <a:ext cx="16192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A0EF-ECDA-4D65-BA82-D651C2A9B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894360" cy="8534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224784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onut</cp:lastModifiedBy>
  <dcterms:modified xsi:type="dcterms:W3CDTF">2006-12-15T00:55:16Z</dcterms:modified>
  <cp:revision>2</cp:revision>
  <dc:subject/>
  <dc:title>PowerPoint Presentation</dc:title>
</cp:coreProperties>
</file>